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60D-E2FF-42A0-B03B-9F72C1CC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A58-4983-4372-A690-BFC5C69B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B14-DA18-43B3-AC3D-2A9C2F57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CE3-D438-475F-8F8F-0596B7D5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E657-290B-4DD8-8A58-0A449B20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D563-6F63-42EE-B8DC-1E34E101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FA39-036D-403E-A865-CFBE8FB0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F560-63C3-4227-B756-6FBDC7A5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3910-D4BA-4321-AF8D-DBC33D81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9906-B39F-465C-AB84-7B28AD10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4178-EBB8-46BB-9426-76B3E8CA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D75-D090-4E63-AFF4-67C27A62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1A05-8115-4F9B-B65D-F21D0B9D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3358-43F5-4EF3-B0AE-83059083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B735-E81C-4987-BEBB-6879435F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B75E-0E30-45CF-BE58-09633CCC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2397-95EB-49BC-A09F-E01A8436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732-A65B-403F-B804-9B3FECE3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AA0-2FB8-4B00-B1E3-BD142CA7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8B9-3CF7-4E33-B7C8-6EA5DA7A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642-973E-4AC2-8898-128D4C11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026-5914-4812-9C9A-55EEB5B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BA0-9C0F-48A3-A5A0-0BD1E054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4EA-1BE0-43AB-97BD-E9C873A7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1CA-E047-46C7-BF34-281E0AB7E3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068D-E6BF-4DFC-B01D-C2BB8FD02A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87;&#1088;&#1080;&#1084;&#1077;&#1088;&#1099;%20&#1073;&#1072;&#1088;&#1100;&#1077;&#1088;&#1086;&#1074;%20&#1074;%20&#1086;&#1073;&#1097;&#1077;&#1085;&#1080;&#1080;&amp;spsite=fake-005-870270.ru&amp;img_url=narodna.pravda.com.ua%2Fimages%2Fdoc%2F07389-picture1.jpg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Барьеры обще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берите у меня все, чем я обладаю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оставьте мне мою речь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скоро я обрету все, что име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аниэл Уэбс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зное социальное положение партнеров …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репятствовать общению, если один из них привык испытывать трепет перед начальств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отрицательных эмоций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общении с расстроенным челове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im7-tub.yandex.net/i?id=92133543&amp;tov=7"/>
          <p:cNvPicPr/>
          <p:nvPr/>
        </p:nvPicPr>
        <p:blipFill>
          <a:blip r:embed="rId1"/>
          <a:stretch/>
        </p:blipFill>
        <p:spPr>
          <a:xfrm>
            <a:off x="5148360" y="3699000"/>
            <a:ext cx="374472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ояние здоровья челове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ям не составляет большого труда по внешним признакам догадаться о том, что происходит с человеком, выбрать соответствующий тон, слова или сократить время общения, чтобы не утомлять собеседника, которому нездоровит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сихологическая защит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вана желанием собеседника защититься от в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Grafik 4" descr="heidelberg.jpg"/>
          <p:cNvPicPr/>
          <p:nvPr/>
        </p:nvPicPr>
        <p:blipFill>
          <a:blip r:embed="rId1"/>
          <a:stretch/>
        </p:blipFill>
        <p:spPr>
          <a:xfrm>
            <a:off x="4716360" y="3573360"/>
            <a:ext cx="39592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установки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когда деловой партнер обладает негативной установкой по отношению к вам или к фирме, представителем которой вы являетес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двойни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том, что мы невольно судим о каждом человеке по себе, ждем от делового партнера такого поступка, какой совершили бы на его мес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ммуникативные барьеры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мантический барьер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выражать свои мысл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ая техника реч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слушат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модальносте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характер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9"/>
          <p:cNvPicPr/>
          <p:nvPr/>
        </p:nvPicPr>
        <p:blipFill>
          <a:blip r:embed="rId1"/>
          <a:stretch/>
        </p:blipFill>
        <p:spPr>
          <a:xfrm>
            <a:off x="5508720" y="393372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антический барьер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бое слово имеет обычно не одно, а несколько значени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мысловые» поля у разных людей разны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пользуются жаргонные слова, тайные языки, часто употребляемые в какой-либо группе образы, прим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выражать свои мысли (логический барьер) ..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.. возникает, если человек, с нашей точки зрения, говорит или делает что-то в противоречии с правилами логики; тогда мы не только отказываемся его понимать, но и эмоционально воспринимаем его слова отрицатель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7" descr="http://im2-tub.yandex.net/i?id=153384587&amp;tov=2"/>
          <p:cNvPicPr/>
          <p:nvPr/>
        </p:nvPicPr>
        <p:blipFill>
          <a:blip r:embed="rId1"/>
          <a:stretch/>
        </p:blipFill>
        <p:spPr>
          <a:xfrm>
            <a:off x="6156360" y="4292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лохая техника речи (фонетический барьер)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на иностранном язык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 большое число иностранных слов или специальную терминологию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быстро, невнятно и с акце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евыразительная речь, речь-скороговорка, звуки-паразиты, дефект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"Барьер" общения – это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передачи информации между партнерами по общени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4249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слушат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является в том, что партнер перебивает, начинает говорить о своем или уходит в собственные мысли и вовсе не реагирует на ваши сл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9" descr="http://proletarism.org/images/1_33.gif"/>
          <p:cNvPicPr/>
          <p:nvPr/>
        </p:nvPicPr>
        <p:blipFill>
          <a:blip r:embed="rId1"/>
          <a:stretch/>
        </p:blipFill>
        <p:spPr>
          <a:xfrm>
            <a:off x="6361200" y="3714840"/>
            <a:ext cx="2135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модальностей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человек не задумывается о приоритетном канале восприятия информ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TheSimpsons"/>
          <p:cNvPicPr/>
          <p:nvPr/>
        </p:nvPicPr>
        <p:blipFill>
          <a:blip r:embed="rId1"/>
          <a:stretch/>
        </p:blipFill>
        <p:spPr>
          <a:xfrm>
            <a:off x="5364000" y="3860640"/>
            <a:ext cx="3529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характер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и с ярко выраженными особенностями темперамента могут быть неудобными собеседник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евежливость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тот барьер, который мешает и правильно воспринимать партнера, и понимать, что он говорит, и взаимодействовать с 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процессе делового общения различают следующие «барьеры»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авторитет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избегание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епонимание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i-main-pic" descr="Картинка 198 из 758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авторитет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делив всех людей на авторитетных и неавторитетных, человек доверяет только первым и отказывает в доверии други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i-main-pic" descr="Картинка 129 из 64000"/>
          <p:cNvPicPr/>
          <p:nvPr/>
        </p:nvPicPr>
        <p:blipFill>
          <a:blip r:embed="rId1"/>
          <a:stretch/>
        </p:blipFill>
        <p:spPr>
          <a:xfrm>
            <a:off x="5940360" y="3716280"/>
            <a:ext cx="261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тнесение человека к авторитетным зависит от следующих факторов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ого положения (статус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р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лекательного внешнего ви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желательного отнош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избегани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избегает источников воздействия, уклоняется от контакта с собеседни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лено, что чаще всего барьер обусловлен той или иной степенью невним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ивлечь внимание можно при использовани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нейтральной фразы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авлечен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рительного контак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«непонимани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точник информации заслуживает доверия, авторитетен, однако информация «не доходит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i-main-pic" descr="Картинка 385 из 64000"/>
          <p:cNvPicPr/>
          <p:nvPr/>
        </p:nvPicPr>
        <p:blipFill>
          <a:blip r:embed="rId1"/>
          <a:stretch/>
        </p:blipFill>
        <p:spPr>
          <a:xfrm>
            <a:off x="2556000" y="3429000"/>
            <a:ext cx="3552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ши типичные ошиб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ые ожидания в отношении партн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м кажется, что партнер должен догадываться о том, что мы чувству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улавливаем подтекст разгов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сли поведение человека нам неприятно, нам кажется, что он плохо к нам относится или даже делает это нам назл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ы стараемся оправдать ожидания собеседни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ы взаимодействия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тивационны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тилей обще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некомпетент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 какому типу собеседников относитесь вы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А (видеть): 1, 5, 8, 10, 12, 14, 19, 21, 23, 27, 31, 32, 39, 40, 42,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В (ощущать): 3, 4, 9, 11, 16, 18, 22, 25, 28, 29, 30, 35, 38, 41, 44, 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С (слышать): 2, 6, 7, 13, 15, 17, 20, 24, 26, 33, 34, 36, 37, 43, 46, 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тивационны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если у партнеров разные мотивы вступления в конта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один заинтересован в развитии общего дела, а другого интересует только немедленная прибы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ически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взаимодействию с партнером мешает его нравственная позиция, несовместимая с ваш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395280" y="3933720"/>
            <a:ext cx="3887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стилей общения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висит от темперамента, характера, мировоззрения и формируется под влиянием воспитания, окружения, профе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Рисунок 10" descr="http://im3-tub.yandex.net/i?id=15373640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824280"/>
            <a:ext cx="345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некомпетентности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некомпетентность партнера вызывает чувство досады, ощущение потерянного време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ы восприятия и понимания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сте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е социальное полож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отрицательных эмоц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остояние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ая защит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установ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двой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troe-iz-prostokvashino-pir-2"/>
          <p:cNvPicPr/>
          <p:nvPr/>
        </p:nvPicPr>
        <p:blipFill>
          <a:blip r:embed="rId1"/>
          <a:stretch/>
        </p:blipFill>
        <p:spPr>
          <a:xfrm>
            <a:off x="5651640" y="4005360"/>
            <a:ext cx="3166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етический барьер …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партнер неопрятно, неряшливо одет или обстановка в его кабинете, вид рабочего стола не располагают к бесед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ttp://im2-tub.yandex.net/i?id=441345&amp;tov=2"/>
          <p:cNvPicPr/>
          <p:nvPr/>
        </p:nvPicPr>
        <p:blipFill>
          <a:blip r:embed="rId1"/>
          <a:stretch/>
        </p:blipFill>
        <p:spPr>
          <a:xfrm>
            <a:off x="3995640" y="429264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5:44:03Z</dcterms:created>
  <dc:creator>Admin</dc:creator>
  <dc:description/>
  <dc:language>en-US</dc:language>
  <cp:lastModifiedBy>Owner</cp:lastModifiedBy>
  <dcterms:modified xsi:type="dcterms:W3CDTF">2012-08-19T00:48:33Z</dcterms:modified>
  <cp:revision>8</cp:revision>
  <dc:subject/>
  <dc:title>Барьеры общения</dc:title>
</cp:coreProperties>
</file>